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012-61A9-4059-9FC7-34BE74C1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FF6-FBC6-4279-BBB0-A03CC45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763-E72C-48FC-8C39-F77ADF5A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C11-790A-4ED8-B5B4-FECABEF6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151F-C78F-4C5B-B13A-8739AFD3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EE89-1AE2-4187-B826-94548B8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A8E5-7D14-489B-B9E3-78313A1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D39-EEC0-4199-BDD3-B50FDC59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102F-A644-4725-8902-5CDF95A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50EA-0812-4504-8FDF-2BCBD1BC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676A-1F89-48C4-AE87-067EFBB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8D2-5DA5-448D-8E88-FA4CC761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A5CD-62AD-4B67-A3C6-C845D8B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79D1-1E3B-4F6D-9918-8AA473D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ACB-DE0C-4809-956C-45964983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C89-AF75-4D2E-A1CE-E27EB274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F33-B165-4395-AD15-C2AC904F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16F5-9EAF-4121-8B34-0AD64597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6879-1892-4157-9E11-2B906285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871E-A2A9-486F-999F-EC48FEDB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CFF1-0AAB-4566-BC57-B07EBD2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484D-B39A-4104-9B98-CA5EFCC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A31-A9E2-4868-A1AB-91481362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214A-DCCC-48A6-8706-438A6415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BA62-A05D-4B8B-9188-77C97F23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6143-9278-417D-8617-0A6B1E2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2E96-919E-499D-9A2A-BACE5C9A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69BE-639B-4AC5-A324-DD521E77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F749-DFE8-465B-987A-AD1B598F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E4F8-4167-42B9-94F2-9FE1512F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E503-DDF1-47C0-B851-91A87049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549B6-9F14-4E8D-AA41-FF61849A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5536-E5E5-4A3A-81E5-0482B7AA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2CA-6A33-44CA-9827-203E78F5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25D0-1F94-4030-8E97-080C4FA9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798CA-8064-47ED-8370-F8B176B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647A-6936-49F8-A6BA-9C361CA0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FA80-AFE2-48CC-BE7B-CEE163C8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B325-FBDC-4700-A534-41C10E0B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5FD1D-DE97-4F0F-8D4C-E9789EB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2FCD-EE12-46FA-8697-BB0D812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2B28B-E3B5-4B49-8345-6C2BB099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0DD8-6252-4473-8D2F-2CBB7BB9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B43-4646-4A23-B830-D49CFDE5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27C-9192-418D-B4BA-22C49DB8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665-515F-45DC-A9FD-D07A3AD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D77-ABE6-4616-A1B8-C405323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7BE-76E7-45A0-939C-CEC6991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94DF-951E-4716-994E-D99F95899F8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E60A-E9D2-492D-B89E-CC44A675160B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8FA4-C7D2-4B8E-BDC4-539A65897EC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4A21-706E-4019-897E-376AA65C051B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F78-B276-4846-B633-64B4F3D1622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914-AD4E-499E-B6E6-5506516111DE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9B45-DA86-4AA3-9100-5FD583E8661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457A-F608-432D-B6BC-803C5CB37AB7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ocial Stud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7701480" y="51814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1840-2A5D-4606-8A57-88A6AF6199F6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National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7268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ation is another word for countr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ach nation makes its own law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cides what to do with its natural resourc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cide to go to war or no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C:\Users\dawn.jessome\AppData\Local\Microsoft\Windows\Temporary Internet Files\Content.IE5\VY6K8DU9\MC900018776[1].wmf"/>
          <p:cNvPicPr/>
          <p:nvPr/>
        </p:nvPicPr>
        <p:blipFill>
          <a:blip r:embed="rId1"/>
          <a:stretch/>
        </p:blipFill>
        <p:spPr>
          <a:xfrm>
            <a:off x="2666880" y="4724280"/>
            <a:ext cx="2994120" cy="153684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B93C-BAC5-4E83-A98E-28AD94B2DCC0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aving a say in how things are organize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d how decisions are mad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Political Leaders, Decisions  about Educatio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786-E532-4EBA-BDBE-E37B9A1F2351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47840" y="30492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olitical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0128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way we organize ourselves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ke decisions in our schools, communities and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ri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te political leaders; student council member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C:\Users\dawn.jessome\AppData\Local\Microsoft\Windows\Temporary Internet Files\Content.IE5\LBOXLUVH\MC900128650[1].wmf"/>
          <p:cNvPicPr/>
          <p:nvPr/>
        </p:nvPicPr>
        <p:blipFill>
          <a:blip r:embed="rId1"/>
          <a:stretch/>
        </p:blipFill>
        <p:spPr>
          <a:xfrm>
            <a:off x="3581280" y="3657600"/>
            <a:ext cx="2057400" cy="303228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36E-0383-45CC-8955-08AEA61EEF43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493120" cy="1592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Econom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how people work to create wealt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ultur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language, food, clothing, spiritual belief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ocietal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– everything people do when they live, work and play together in communiti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E95-0E62-4D30-9E07-51F1CA3B671B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493120" cy="15922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ation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what a nation do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ithout other nations telling them what to d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Politic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having a say in how things are organized and how decisions are ma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83E-C1AB-4512-8A77-67414FB0E9A9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9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Empowerment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066680" y="2666880"/>
            <a:ext cx="77724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owerment comes from h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bility to do something about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eds, wants, opinions, belief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el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4AB6-F48F-4CEF-A0BD-FD71E5030982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340480" cy="1592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13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- how people work to create wealth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(How we use money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to produce, distribute, and consum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oods/servic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33520" y="3429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C4BD-7EA1-494E-8E61-5DE619C2BE38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7400" y="533160"/>
            <a:ext cx="5462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Economic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77240" cy="342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2000"/>
          </a:bodyPr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ving enough wealth to take care of your nee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alth Is distributed through a system whe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work to earn mone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the money to buy what they ne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with less money have fewer choices when it com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needs such as food, shelter, clothing and educ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dawn.jessome\AppData\Local\Microsoft\Windows\Temporary Internet Files\Content.IE5\WA3QW2E4\MP910216430[1].jpg"/>
          <p:cNvPicPr/>
          <p:nvPr/>
        </p:nvPicPr>
        <p:blipFill>
          <a:blip r:embed="rId1"/>
          <a:stretch/>
        </p:blipFill>
        <p:spPr>
          <a:xfrm>
            <a:off x="3429000" y="502920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994E-2450-41EF-A83C-CB94B65EA655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144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ultural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– language, food, clothing, spiritual beliefs (People need to remember their history, language and tradition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609480" y="3429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59A6-0DB0-45C1-9BB9-BFB808C86206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Cultural Empowermen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1508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made up of everyday things such as language, food and cloth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owerment comes from being free to practice your cult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need to feel free to remember their history, language and traditio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http://www.crystalinks.com/sundance2.jpg"/>
          <p:cNvPicPr/>
          <p:nvPr/>
        </p:nvPicPr>
        <p:blipFill>
          <a:blip r:embed="rId1"/>
          <a:stretch/>
        </p:blipFill>
        <p:spPr>
          <a:xfrm>
            <a:off x="1143000" y="2133720"/>
            <a:ext cx="2678040" cy="263340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07A6-C97C-4CC2-8607-4514CB963B75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232840" cy="152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verything people do when they live, work and pla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ogether in communities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Members of society being treated fairly and equally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32FC-35C7-428E-81EB-DCA16023EAD5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ocietal Empowermen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20040" cy="3749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marL="17640"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olves everything people do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en they live, work, and play togethe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 communiti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t3.gstatic.com/images?q=tbn:ANd9GcRH13eIM4jnttRmw_u1mjSpNKAADXlRnU0edq-KAHaEW6suUb--"/>
          <p:cNvPicPr/>
          <p:nvPr/>
        </p:nvPicPr>
        <p:blipFill>
          <a:blip r:embed="rId1"/>
          <a:stretch/>
        </p:blipFill>
        <p:spPr>
          <a:xfrm>
            <a:off x="2971800" y="4419720"/>
            <a:ext cx="2649600" cy="1984320"/>
          </a:xfrm>
          <a:prstGeom prst="rect">
            <a:avLst/>
          </a:prstGeom>
          <a:ln w="0">
            <a:noFill/>
          </a:ln>
        </p:spPr>
      </p:pic>
      <p:sp>
        <p:nvSpPr>
          <p:cNvPr id="223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8ABB-8E74-422A-843E-D5EB8B44FC91}" type="slidenum">
              <a:rPr b="0" lang="en-C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85840" y="517680"/>
            <a:ext cx="8248680" cy="1592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14400" y="217152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hat a nation does without other nation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elling  them what to do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Laws, natural resources, war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09480" y="3429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788-D901-4EB7-AEC1-FFDD5DEB7140}" type="slidenum">
              <a:rPr b="0" lang="en-C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3:13:36Z</dcterms:created>
  <dc:creator>ladmin</dc:creator>
  <dc:description/>
  <dc:language>en-US</dc:language>
  <cp:lastModifiedBy>ladmin</cp:lastModifiedBy>
  <dcterms:modified xsi:type="dcterms:W3CDTF">2014-09-22T22:01:32Z</dcterms:modified>
  <cp:revision>46</cp:revision>
  <dc:subject/>
  <dc:title>Personal Development  &amp;  Career Planning</dc:title>
</cp:coreProperties>
</file>